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projctor.wav" ContentType="audio/x-wav"/>
  <Override PartName="/ppt/media/image3.png" ContentType="image/png"/>
  <Override PartName="/ppt/media/big.wav" ContentType="audio/x-wav"/>
  <Override PartName="/ppt/media/image5.png" ContentType="image/png"/>
  <Override PartName="/ppt/media/image4.png" ContentType="image/png"/>
  <Override PartName="/ppt/media/blue.wav" ContentType="audio/x-wav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CFC2-21AD-452E-8425-2ACC332BD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47C9-DB99-4C6F-9EC5-C947FD6BD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8A89-2B9A-4D8D-8BF9-D0C60DAF0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E360-2B3E-4012-9818-CBD28F991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C259-9E29-4CF9-9D63-7ECC77BE7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978E-FCC6-4C6A-ACFA-2174A1BBD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D974-63D5-48E3-B856-A7C4158BF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5786-D507-47EF-9235-7F8CC7107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CB42-281D-4176-8583-BA0980E7E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F19A-FBF6-4E85-BBF0-BFAE8E31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A099-8F4D-41C9-A994-E457B2BBB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52CD-AB25-4B1A-97A7-66404E8D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D1450-DA47-4B24-9143-3E943467A9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dkenterprises.com/coloring/toys/dog-cat.gif" TargetMode="External"/><Relationship Id="rId2" Type="http://schemas.openxmlformats.org/officeDocument/2006/relationships/image" Target="../media/image2.pn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meraldhomesdallas.com/images/house.gif" TargetMode="External"/><Relationship Id="rId2" Type="http://schemas.openxmlformats.org/officeDocument/2006/relationships/image" Target="../media/image3.png"/><Relationship Id="rId3" Type="http://schemas.openxmlformats.org/officeDocument/2006/relationships/audio" Target="../media/projctor.wav"/><Relationship Id="rId4" Type="http://schemas.openxmlformats.org/officeDocument/2006/relationships/audio" Target="../media/big.wav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trforhumanintegration.org/blue%20bird.gif" TargetMode="External"/><Relationship Id="rId2" Type="http://schemas.openxmlformats.org/officeDocument/2006/relationships/image" Target="../media/image4.png"/><Relationship Id="rId3" Type="http://schemas.openxmlformats.org/officeDocument/2006/relationships/audio" Target="../media/projctor.wav"/><Relationship Id="rId4" Type="http://schemas.openxmlformats.org/officeDocument/2006/relationships/audio" Target="../media/blue.wav"/><Relationship Id="rId5" Type="http://schemas.openxmlformats.org/officeDocument/2006/relationships/audio" Target="../media/blue.wav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-Primer Dolch Word Lis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d by Julie Provi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276720" y="4495680"/>
            <a:ext cx="2582640" cy="2000520"/>
            <a:chOff x="3276720" y="4495680"/>
            <a:chExt cx="2582640" cy="2000520"/>
          </a:xfrm>
        </p:grpSpPr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3276720" y="4495680"/>
              <a:ext cx="2582640" cy="200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3962160" y="5029200"/>
              <a:ext cx="1142640" cy="609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ord L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 dog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cat play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00400" y="4114800"/>
            <a:ext cx="2590920" cy="2000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projcto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68580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Big</a:t>
            </a:r>
            <a:br>
              <a:rPr sz="8800"/>
            </a:b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Big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homes are pretty.</a:t>
            </a: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8800"/>
            </a:b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95480" y="4267080"/>
            <a:ext cx="3440160" cy="200052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projctor.wav"/>
      </p:stSnd>
    </p:sndAc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Blu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Blue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birds sing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4495680"/>
            <a:ext cx="2666880" cy="18288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projctor.wav"/>
      </p:stSnd>
    </p:sndAc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lu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lu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ca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Can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you see the spider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657600" y="4114800"/>
            <a:ext cx="1684440" cy="236232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projctor.wav"/>
      </p:stSnd>
    </p:sndAc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com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Come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to school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124080" y="4114800"/>
            <a:ext cx="2743200" cy="236232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projctor.wav"/>
      </p:stSnd>
    </p:sndAc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dow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 fell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down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505320" y="4419720"/>
            <a:ext cx="1981080" cy="19047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projctor.wav"/>
      </p:stSnd>
    </p:sndAc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4T17:53:02Z</dcterms:created>
  <dc:creator>jctc</dc:creator>
  <dc:description/>
  <dc:language>en-US</dc:language>
  <cp:lastModifiedBy>jctc</cp:lastModifiedBy>
  <dcterms:modified xsi:type="dcterms:W3CDTF">2001-09-14T17:59:25Z</dcterms:modified>
  <cp:revision>2</cp:revision>
  <dc:subject/>
  <dc:title>Pre-Primer Dolch Word List Part 1</dc:title>
</cp:coreProperties>
</file>